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9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3.png" ContentType="image/png"/>
  <Override PartName="/ppt/media/image5.png" ContentType="image/png"/>
  <Override PartName="/ppt/media/image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41BE-2470-4719-8596-8A86F7986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41AC-0049-4FFE-8443-E6480DD9F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5DE8-842F-4F75-A1CD-324030FAD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7454-F8D9-4DE8-A3F5-1788BC791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9500A-9B70-4365-B397-0DEF85C78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AC789-94E8-446D-B6B4-119418D98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DC1E6-1783-4A45-B2F0-823E71105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60429-038B-4CA8-90A8-47FD210EB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19C9F-7677-4453-8936-E376532F9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9BD71-C07B-4526-B700-C1726A7E6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4AC11-8AD1-4B1B-8ED2-F06435869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BED6-20D2-46DD-87BB-36DF3EE11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FF871-252D-4D9F-8483-28331692B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C809C-D03A-40EB-B9A9-DF89CEE6C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640C2-8D98-48EB-A145-8B189796E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CAE14-2E8C-4985-9CE8-A9EB91876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89680-A6D3-4B2E-9F67-0EF0674DE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0239E8-D3B2-4E8D-AC0A-11AE3FC49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EC7515-4829-4448-B2E8-80D39A583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7E8744-7416-4927-9725-5D5FB751F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198E87-5D35-467C-9784-59CD66475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14C246-F2D2-4DCB-B768-C346A1F60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C0E2-13D4-4DAE-AEFE-E7E43D289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7AD52A-9CED-4B8C-9B8E-85F116782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9F4DE4-3AF7-4678-86AD-CDF4741CE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6EF0AA-0A9E-43B1-8F39-AC88E4EE4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BA3749-D017-4F69-A847-D452772ED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4B9CAC-D01C-4753-8CBF-C06BE4D49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FBABAA-9F34-4DE3-8E95-2C79E70FC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D82221-BB8A-45F1-BA67-2D2B21ADD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1B77C7-F3DE-485C-A9BE-DCBA84D10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2FBE56-E14C-47DE-B953-440DFCC94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4C695B-C78D-488D-8B86-B71103D9F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D457-F974-4FBB-B2E2-D82A21D0B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891F04-8E54-4BF2-85D4-CC0B338C8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566D8D-64B1-4F44-A5E0-43DEBFB70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BED4EA-D67E-4D4D-B039-EC81EA8CE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05F69B-555B-4D35-A96F-20F059FDE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149B85-E8AE-4D95-8884-CF7C2136C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216A16-E5FA-42A7-B5BC-0B92E24CD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BB22AD-7780-41FC-A663-5752DEC89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7BBE2A-7058-4383-A93F-C53E1B1C0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0D8D16-47F2-4151-95AD-CCFA21208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3C6F-AC02-402E-9343-2AB9A07BB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ABF7-7F4E-42D2-A92E-AD57026C4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F7B1-C564-4532-9E53-D7FD8D34E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B12D-9613-48BE-A0C1-B988694FE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67DD-DBBE-4F52-AF1A-F8748D275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66BFD-1E8A-4F0D-A7BE-5AD1C9E97D88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6B8D1-4B2D-434E-AA6D-CAAEFBE9CE79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415F9-B172-4D51-AF69-4D0C4569D163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E4E2D-1C48-43B0-AC08-60A15872FF42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2"/>
          <a:stretch/>
        </p:blipFill>
        <p:spPr>
          <a:xfrm>
            <a:off x="420840" y="1023840"/>
            <a:ext cx="8180280" cy="24685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733920"/>
            <a:ext cx="7854840" cy="266688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  <a:ea typeface="新細明體"/>
              </a:rPr>
              <a:t>Sangwon Suh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  <a:ea typeface="新細明體"/>
              </a:rPr>
              <a:t>Dept. Bioproducts and Biosystems Engineering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  <a:ea typeface="新細明體"/>
              </a:rPr>
              <a:t>University of Minnesota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2"/>
          <a:srcRect l="2727" t="16749" r="1818" b="16266"/>
          <a:stretch/>
        </p:blipFill>
        <p:spPr>
          <a:xfrm>
            <a:off x="0" y="1905120"/>
            <a:ext cx="9144000" cy="452736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  <a:ea typeface="新細明體"/>
              </a:rPr>
              <a:t>Comparing EtOH Water Appropriation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  <a:ea typeface="新細明體"/>
              </a:rPr>
              <a:t>Source Wat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0" y="1981080"/>
            <a:ext cx="914400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  <a:ea typeface="新細明體"/>
              </a:rPr>
              <a:t>Multidisciplinary Effort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lnSpc>
                <a:spcPct val="13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  <a:ea typeface="新細明體"/>
              </a:rPr>
              <a:t>Two testimonials to Legislative Citizens Commission for Minnesota Resources (LCCMR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3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  <a:ea typeface="新細明體"/>
              </a:rPr>
              <a:t>Substantial media coverage on the issue, but often with conflicting informatio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3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  <a:ea typeface="新細明體"/>
              </a:rPr>
              <a:t>Two new projects: (1) from LCCMR, (2) USDA/DO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3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  <a:ea typeface="新細明體"/>
              </a:rPr>
              <a:t>Meeting with John Wells – various activities around the issue across M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3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  <a:ea typeface="新細明體"/>
              </a:rPr>
              <a:t>Serial Meeting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21333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lnSpc>
                <a:spcPct val="12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  <a:ea typeface="新細明體"/>
              </a:rPr>
              <a:t>We’ll continually arrange integrated meeting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713160" indent="-274320">
              <a:lnSpc>
                <a:spcPct val="12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新細明體"/>
              </a:rPr>
              <a:t>How the issue is perceived by the expert groups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13160" indent="-274320">
              <a:lnSpc>
                <a:spcPct val="12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新細明體"/>
              </a:rPr>
              <a:t>What can we do as a group of experts to better inform the general public and policy makers on water implications of energy industry development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13160" indent="-274320">
              <a:lnSpc>
                <a:spcPct val="12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新細明體"/>
              </a:rPr>
              <a:t>What are the knowledge/data gaps to better understand the issue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13160" indent="-274320">
              <a:lnSpc>
                <a:spcPct val="12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新細明體"/>
              </a:rPr>
              <a:t>Is there a common methodological/modeling ground for analysis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  <a:ea typeface="新細明體"/>
              </a:rPr>
              <a:t>Objectives of the Meeting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  <a:ea typeface="新細明體"/>
              </a:rPr>
              <a:t>Information/perspective shar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新細明體"/>
              </a:rPr>
              <a:t>Ongoing activities by various institutions around M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新細明體"/>
              </a:rPr>
              <a:t>Available data and resourc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新細明體"/>
              </a:rPr>
              <a:t>Modeling framework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新細明體"/>
              </a:rPr>
              <a:t>Water implications of biofuel development in general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新細明體"/>
              </a:rPr>
              <a:t>Key knowledge/data gap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  <a:ea typeface="新細明體"/>
              </a:rPr>
              <a:t>Discuss possible consensus build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新細明體"/>
              </a:rPr>
              <a:t>Common methodological/modeling groun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新細明體"/>
              </a:rPr>
              <a:t>The current state and the future prospects of water implications of ethanol development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  <a:ea typeface="新細明體"/>
              </a:rPr>
              <a:t>Our overall observa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新細明體"/>
              </a:rPr>
              <a:t>Water use by biofuel conversion processes does not seem to be a major threat for MN water resource at the state-level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新細明體"/>
              </a:rPr>
              <a:t>At a local level, however, water use by biofuel plant can be a problem depending on the ground water availability and public water supply capacity of the area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新細明體"/>
              </a:rPr>
              <a:t>Broad range of cost-effective water conservation measures should be discussed in all areas of water use (not only in biofuel conversion processes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新細明體"/>
              </a:rPr>
              <a:t>Standardized data, model and analytical method to determine location-specific water availability will be helpful to site biofuel plants considering water availability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  <a:ea typeface="新細明體"/>
              </a:rPr>
              <a:t>Ethanol mandat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6E282-5537-4470-8EBB-DF83CB780986}" type="slidenum">
              <a:rPr b="0" lang="zh-TW" sz="1200" spc="-1" strike="noStrike">
                <a:solidFill>
                  <a:srgbClr val="045c75"/>
                </a:solidFill>
                <a:latin typeface="Constantia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0" name="Picture 6" descr=""/>
          <p:cNvPicPr/>
          <p:nvPr/>
        </p:nvPicPr>
        <p:blipFill>
          <a:blip r:embed="rId2"/>
          <a:stretch/>
        </p:blipFill>
        <p:spPr>
          <a:xfrm>
            <a:off x="838080" y="1892160"/>
            <a:ext cx="7620120" cy="45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Slide Number Placeholder 1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BC993-1484-43BC-A32C-1A613E321BD4}" type="slidenum">
              <a:rPr b="0" lang="zh-TW" sz="1200" spc="-1" strike="noStrike">
                <a:solidFill>
                  <a:srgbClr val="045c75"/>
                </a:solidFill>
                <a:latin typeface="Constantia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Title 1"/>
          <p:cNvSpPr/>
          <p:nvPr/>
        </p:nvSpPr>
        <p:spPr>
          <a:xfrm>
            <a:off x="380880" y="274680"/>
            <a:ext cx="8553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b8d"/>
                </a:solidFill>
                <a:latin typeface="Calibri"/>
                <a:ea typeface="新細明體"/>
              </a:rPr>
              <a:t>Where the water is used?</a:t>
            </a:r>
            <a:endParaRPr b="0" lang="en-US" sz="4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3" name="Picture 3" descr="moz-screenshot-3.jpg"/>
          <p:cNvPicPr/>
          <p:nvPr/>
        </p:nvPicPr>
        <p:blipFill>
          <a:blip r:embed="rId2"/>
          <a:stretch/>
        </p:blipFill>
        <p:spPr>
          <a:xfrm>
            <a:off x="1066680" y="1447920"/>
            <a:ext cx="7201080" cy="5240160"/>
          </a:xfrm>
          <a:prstGeom prst="rect">
            <a:avLst/>
          </a:prstGeom>
          <a:ln w="0">
            <a:noFill/>
          </a:ln>
        </p:spPr>
      </p:pic>
      <p:sp>
        <p:nvSpPr>
          <p:cNvPr id="204" name="TextBox 4"/>
          <p:cNvSpPr/>
          <p:nvPr/>
        </p:nvSpPr>
        <p:spPr>
          <a:xfrm>
            <a:off x="4613760" y="6488280"/>
            <a:ext cx="244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新細明體"/>
              </a:rPr>
              <a:t>Source: Delta-T corp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Oval 5"/>
          <p:cNvSpPr/>
          <p:nvPr/>
        </p:nvSpPr>
        <p:spPr>
          <a:xfrm>
            <a:off x="6248520" y="2057400"/>
            <a:ext cx="914400" cy="609480"/>
          </a:xfrm>
          <a:prstGeom prst="ellipse">
            <a:avLst/>
          </a:prstGeom>
          <a:noFill/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Oval 6"/>
          <p:cNvSpPr/>
          <p:nvPr/>
        </p:nvSpPr>
        <p:spPr>
          <a:xfrm>
            <a:off x="6629400" y="3733920"/>
            <a:ext cx="914400" cy="609480"/>
          </a:xfrm>
          <a:prstGeom prst="ellipse">
            <a:avLst/>
          </a:prstGeom>
          <a:noFill/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7" name="TextBox 7" descr=""/>
          <p:cNvPicPr/>
          <p:nvPr/>
        </p:nvPicPr>
        <p:blipFill>
          <a:blip r:embed="rId3"/>
          <a:stretch/>
        </p:blipFill>
        <p:spPr>
          <a:xfrm>
            <a:off x="6681960" y="2597040"/>
            <a:ext cx="2101680" cy="858960"/>
          </a:xfrm>
          <a:prstGeom prst="rect">
            <a:avLst/>
          </a:prstGeom>
          <a:ln w="0">
            <a:noFill/>
          </a:ln>
        </p:spPr>
      </p:pic>
      <p:sp>
        <p:nvSpPr>
          <p:cNvPr id="208" name="Oval 8"/>
          <p:cNvSpPr/>
          <p:nvPr/>
        </p:nvSpPr>
        <p:spPr>
          <a:xfrm>
            <a:off x="6248520" y="3124080"/>
            <a:ext cx="914400" cy="6098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Oval 9"/>
          <p:cNvSpPr/>
          <p:nvPr/>
        </p:nvSpPr>
        <p:spPr>
          <a:xfrm>
            <a:off x="2362320" y="5105520"/>
            <a:ext cx="914400" cy="6094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MN ethanol plants’ water use rate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1" name="Chart 3" descr=""/>
          <p:cNvPicPr/>
          <p:nvPr/>
        </p:nvPicPr>
        <p:blipFill>
          <a:blip r:embed="rId1"/>
          <a:stretch/>
        </p:blipFill>
        <p:spPr>
          <a:xfrm>
            <a:off x="378000" y="1749600"/>
            <a:ext cx="8540640" cy="4706640"/>
          </a:xfrm>
          <a:prstGeom prst="rect">
            <a:avLst/>
          </a:prstGeom>
          <a:ln w="0">
            <a:noFill/>
          </a:ln>
        </p:spPr>
      </p:pic>
      <p:sp>
        <p:nvSpPr>
          <p:cNvPr id="212" name="TextBox 4"/>
          <p:cNvSpPr/>
          <p:nvPr/>
        </p:nvSpPr>
        <p:spPr>
          <a:xfrm>
            <a:off x="4201920" y="6488280"/>
            <a:ext cx="484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Source: DNR (2006) and own data collected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TextBox 5"/>
          <p:cNvSpPr/>
          <p:nvPr/>
        </p:nvSpPr>
        <p:spPr>
          <a:xfrm rot="10800000">
            <a:off x="147240" y="1874160"/>
            <a:ext cx="454680" cy="44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ater use / ethanol production (gallon/gallon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Where the water come from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5" name="Chart 3" descr=""/>
          <p:cNvPicPr/>
          <p:nvPr/>
        </p:nvPicPr>
        <p:blipFill>
          <a:blip r:embed="rId1"/>
          <a:stretch/>
        </p:blipFill>
        <p:spPr>
          <a:xfrm>
            <a:off x="298440" y="1292400"/>
            <a:ext cx="854712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228600" y="457200"/>
          <a:ext cx="8686800" cy="6172200"/>
        </p:xfrm>
        <a:graphic>
          <a:graphicData uri="http://schemas.openxmlformats.org/drawingml/2006/table">
            <a:tbl>
              <a:tblPr/>
              <a:tblGrid>
                <a:gridCol w="1995480"/>
                <a:gridCol w="1125720"/>
                <a:gridCol w="1147680"/>
                <a:gridCol w="898560"/>
                <a:gridCol w="842760"/>
                <a:gridCol w="1058760"/>
                <a:gridCol w="1013040"/>
                <a:gridCol w="604800"/>
              </a:tblGrid>
              <a:tr h="32544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acil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un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thanol Capac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gridSpan="5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ported Annual Water Usage (MGY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4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GY</a:t>
                      </a:r>
                      <a:r>
                        <a:rPr b="0" lang="en-US" sz="1200" spc="-1" strike="noStrike" baseline="30000">
                          <a:solidFill>
                            <a:srgbClr val="ffffff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ells (owned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ell (public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urface (owned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urface (public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th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325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bertLea(Exol/Agri resource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Calibri"/>
                        </a:rPr>
                        <a:t>Freebor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water(BushmillsEthano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Calibri"/>
                        </a:rPr>
                        <a:t>Kandiyoh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nson(CVEC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Calibri"/>
                        </a:rPr>
                        <a:t>Swif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nghamLake(Ethanol2000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Calibri"/>
                        </a:rPr>
                        <a:t>Cottonwoo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uffaloLake(MN energy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Calibri"/>
                        </a:rPr>
                        <a:t>Renvil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8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aremont(Al-Corn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Calibri"/>
                        </a:rPr>
                        <a:t>Dod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6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aniteFallsEnerg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9da9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Calibri"/>
                        </a:rPr>
                        <a:t>Yellow Medic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9da9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9da9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9da9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9da9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8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9da9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9da9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9da92"/>
                    </a:solidFill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onLakeBioenerg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Calibri"/>
                        </a:rPr>
                        <a:t>Jacks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keCrys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Calibri"/>
                        </a:rPr>
                        <a:t>Blue Ear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ttleFalls(CMEC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Calibri"/>
                        </a:rPr>
                        <a:t>Morris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8.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uverne(Corn-erSton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Calibri"/>
                        </a:rPr>
                        <a:t>Roc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rshall(ADM)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Calibri"/>
                        </a:rPr>
                        <a:t>Ly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lrose(DairyProtein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Calibri"/>
                        </a:rPr>
                        <a:t>Stear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rris(DENCO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Calibri"/>
                        </a:rPr>
                        <a:t>Steve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2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ston(Pro-Corn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Calibri"/>
                        </a:rPr>
                        <a:t>Fillmo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innebago(Corn Plu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Calibri"/>
                        </a:rPr>
                        <a:t>Faribaul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inthrop(Heartland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Calibri"/>
                        </a:rPr>
                        <a:t>Sible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omparing with state total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  <p:pic>
        <p:nvPicPr>
          <p:cNvPr id="220" name="Chart 3" descr=""/>
          <p:cNvPicPr/>
          <p:nvPr/>
        </p:nvPicPr>
        <p:blipFill>
          <a:blip r:embed="rId2"/>
          <a:stretch/>
        </p:blipFill>
        <p:spPr>
          <a:xfrm>
            <a:off x="907920" y="1974960"/>
            <a:ext cx="7328160" cy="4481280"/>
          </a:xfrm>
          <a:prstGeom prst="rect">
            <a:avLst/>
          </a:prstGeom>
          <a:ln w="0">
            <a:noFill/>
          </a:ln>
        </p:spPr>
      </p:pic>
      <p:sp>
        <p:nvSpPr>
          <p:cNvPr id="221" name="TextBox 4"/>
          <p:cNvSpPr/>
          <p:nvPr/>
        </p:nvSpPr>
        <p:spPr>
          <a:xfrm rot="10800000">
            <a:off x="528480" y="2249280"/>
            <a:ext cx="454680" cy="356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illion Gallons per year (in year 2007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Water-intensive industry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  <p:pic>
        <p:nvPicPr>
          <p:cNvPr id="224" name="Chart 3" descr=""/>
          <p:cNvPicPr/>
          <p:nvPr/>
        </p:nvPicPr>
        <p:blipFill>
          <a:blip r:embed="rId2"/>
          <a:stretch/>
        </p:blipFill>
        <p:spPr>
          <a:xfrm>
            <a:off x="530280" y="1914480"/>
            <a:ext cx="8163000" cy="4413240"/>
          </a:xfrm>
          <a:prstGeom prst="rect">
            <a:avLst/>
          </a:prstGeom>
          <a:ln w="0">
            <a:noFill/>
          </a:ln>
        </p:spPr>
      </p:pic>
      <p:sp>
        <p:nvSpPr>
          <p:cNvPr id="225" name="TextBox 4"/>
          <p:cNvSpPr/>
          <p:nvPr/>
        </p:nvSpPr>
        <p:spPr>
          <a:xfrm>
            <a:off x="86400" y="6248520"/>
            <a:ext cx="823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Estimations based on water use, water price, and ethanol production data (own data collected;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Smith et al., 2008; Dept. public health, 2008; DNR, 2007)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4617b"/>
                </a:solidFill>
                <a:latin typeface="Calibri"/>
              </a:rPr>
              <a:t>Demand: Ethanol Water Footprint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lnSpc>
                <a:spcPct val="13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pproximately </a:t>
            </a:r>
            <a:r>
              <a:rPr b="1" lang="en-US" sz="2600" spc="-1" strike="noStrike">
                <a:solidFill>
                  <a:srgbClr val="33cc33"/>
                </a:solidFill>
                <a:latin typeface="Constantia"/>
              </a:rPr>
              <a:t>9.6 trillion gallons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of water were appropriated by the U.S. ethanol industry in 2007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lnSpc>
                <a:spcPct val="13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nstantia"/>
              </a:rPr>
              <a:t>806 billion gallon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: irrigated water from </a:t>
            </a:r>
            <a:r>
              <a:rPr b="0" lang="en-US" sz="2400" spc="-1" strike="noStrike">
                <a:solidFill>
                  <a:srgbClr val="009dd9"/>
                </a:solidFill>
                <a:latin typeface="Constantia"/>
              </a:rPr>
              <a:t>aquif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lnSpc>
                <a:spcPct val="13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nstantia"/>
              </a:rPr>
              <a:t>475 billion gallon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: irrigated water from </a:t>
            </a:r>
            <a:r>
              <a:rPr b="0" lang="en-US" sz="2400" spc="-1" strike="noStrike">
                <a:solidFill>
                  <a:srgbClr val="009dd9"/>
                </a:solidFill>
                <a:latin typeface="Constantia"/>
              </a:rPr>
              <a:t>surface water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sourc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lnSpc>
                <a:spcPct val="13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nstantia"/>
              </a:rPr>
              <a:t>26 billion gallon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: ethanol facilities process water (mostly groundwater)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3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ater appropriation for ethanol industry is equivalent to </a:t>
            </a:r>
            <a:r>
              <a:rPr b="0" lang="en-US" sz="2600" spc="-1" strike="noStrike">
                <a:solidFill>
                  <a:srgbClr val="cc3300"/>
                </a:solidFill>
                <a:latin typeface="Constantia"/>
              </a:rPr>
              <a:t>10%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of Mississippi River’s annual flow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0T03:16:59Z</dcterms:created>
  <dc:creator>sangwon</dc:creator>
  <dc:description/>
  <dc:language>en-US</dc:language>
  <cp:lastModifiedBy>Yiwen Chiu</cp:lastModifiedBy>
  <dcterms:modified xsi:type="dcterms:W3CDTF">2008-06-24T15:47:20Z</dcterms:modified>
  <cp:revision>25</cp:revision>
  <dc:subject/>
  <dc:title>Slide 1</dc:title>
</cp:coreProperties>
</file>